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080-05DC-44E4-A2CB-771132F4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4A8-3B0A-4A36-9BEB-F65FE831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CE1-027C-44B0-ABC5-E630BFB8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42A-92C2-4818-BFF1-D9BE755F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53BB-EC67-4E06-B495-A19F1022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65D6-5033-46BB-BC55-E5657BF3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16B4-10B8-443D-AC59-6EB13705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4BA7-126C-46A4-BB57-8F8E9B6B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9C92-30C2-43C6-BCFC-23CD6D44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E997-69A7-4370-9BDF-80D0B1B3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B24B-C0E9-46CB-828A-7EB6A5B5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B0A-7D8D-41A7-A68D-C639FB13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B989-F557-4E09-BDF8-C3B55680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03F9-1179-472E-A5A3-774162D4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8F06-AF32-4CD6-8274-F8506099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7AB6-E2FB-4A50-A70C-61FB8A2C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E9A5-E994-4B5A-B9DC-192CC3B9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37AF8-F363-41A7-9C58-84F5D58F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2B52-D090-4CCF-8ECE-3341E1E2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0224-74C1-44D4-85DD-81FEB82B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54A7A-9FE0-4DC2-8E15-B5FABE1C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B155-4E29-4821-9681-43A1A587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273-ECF2-4A2F-8422-6F938EE6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1F06-C01E-4943-88CC-35244974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72A78-2A1C-4660-ABF4-3BFCBD20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0BA29-0025-4019-86D9-0F5466C8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D5EBD-F9FA-440F-88F1-4CE68C2B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A45A-A936-4EA2-943E-87A130F6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8AFD1-D84E-4C14-AD23-25A2DD8C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AC1D-3CF9-48D8-A8B3-97E92169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52637-4B07-4E75-B140-656341DF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313BD-CC4B-4BC4-8BF7-4825E6B3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45E1F-EA93-4817-84A5-AF6D3CA7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B0C-34E1-403E-AC38-0AEC344E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0286C-AB0F-4F5B-A14C-DF432491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4D930-5AAF-439D-B6FE-1BC2CE8A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62F71-5C39-4841-9551-7492BFCD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97EE0-E8EB-414F-9C6A-4B968C91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1A121-A7BF-4559-9824-55C46A06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F0104-ACE8-4039-8354-BBC26048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EDB75-A2FC-4D74-9009-97BD8D0D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98EF8-ACA4-47F8-A69B-ADE65D16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28B6D-290B-405C-AF96-5551CECC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62D9D-1E79-4AEC-A65B-BF6A30EA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BF9-735F-4173-B8DF-7DE3F10B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1D0C2-4881-419A-B89B-F11761F8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A26AC-D1C7-4100-B535-C12419E3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1B9FA-ABE6-4A97-8187-CF61CBD2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D6364-6090-4A88-BA5D-3DD4DDA8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3CEF6-C9CA-47CA-8FEF-EF7D0DD8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AD127-701A-40E0-ABDC-E052AA95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1D4B8-0AB1-47B5-9DEF-2CAF2DAD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B9206-BF45-4199-891F-D28E9690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45519-2084-422D-B1FE-309D4CAA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3D3A0-9555-4E80-B706-EFD3ED7B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E45-8781-415F-B861-FFE82169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026D8-80D3-4F55-8136-AED54D6A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882-ECE9-4945-B4A9-4ACA723C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EFCE-7BAE-4A7B-9D6A-A20B7A3F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231-D41C-4493-A160-BC757AB9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3517-98F7-477E-854E-B420E425AFE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8851-1CE7-42E6-A2B5-86A92BD01DE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78E2-CA67-4667-846B-D86A4201407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8945-036A-486C-A77B-CF601440FE3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C535-BB54-47D8-98B9-22AFF41E3A7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6a55"/>
                </a:solidFill>
                <a:latin typeface="Perpetua"/>
              </a:rPr>
              <a:t>Makin</a:t>
            </a:r>
            <a:r>
              <a:rPr b="0" lang="ja-JP" sz="2600" spc="-1" strike="noStrike">
                <a:solidFill>
                  <a:srgbClr val="676a55"/>
                </a:solidFill>
                <a:latin typeface="Perpetua"/>
              </a:rPr>
              <a:t>’</a:t>
            </a:r>
            <a:r>
              <a:rPr b="0" lang="en-US" sz="2600" spc="-1" strike="noStrike">
                <a:solidFill>
                  <a:srgbClr val="676a55"/>
                </a:solidFill>
                <a:latin typeface="Perpetua"/>
              </a:rPr>
              <a:t> somethin</a:t>
            </a:r>
            <a:r>
              <a:rPr b="0" lang="ja-JP" sz="2600" spc="-1" strike="noStrike">
                <a:solidFill>
                  <a:srgbClr val="676a55"/>
                </a:solidFill>
                <a:latin typeface="Perpetua"/>
              </a:rPr>
              <a:t>’</a:t>
            </a:r>
            <a:r>
              <a:rPr b="0" lang="en-US" sz="2600" spc="-1" strike="noStrike">
                <a:solidFill>
                  <a:srgbClr val="676a55"/>
                </a:solidFill>
                <a:latin typeface="Perpetua"/>
              </a:rPr>
              <a:t> out a somethin</a:t>
            </a:r>
            <a:r>
              <a:rPr b="0" lang="ja-JP" sz="2600" spc="-1" strike="noStrike">
                <a:solidFill>
                  <a:srgbClr val="676a55"/>
                </a:solidFill>
                <a:latin typeface="Perpetua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Synthesis!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Other Examples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49" name="Picture 6" descr="broccoflower.jpg"/>
          <p:cNvPicPr/>
          <p:nvPr/>
        </p:nvPicPr>
        <p:blipFill>
          <a:blip r:embed="rId1"/>
          <a:stretch/>
        </p:blipFill>
        <p:spPr>
          <a:xfrm>
            <a:off x="3578400" y="3998880"/>
            <a:ext cx="3127320" cy="2846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black-labradoodle.jpg"/>
          <p:cNvPicPr/>
          <p:nvPr/>
        </p:nvPicPr>
        <p:blipFill>
          <a:blip r:embed="rId2"/>
          <a:stretch/>
        </p:blipFill>
        <p:spPr>
          <a:xfrm>
            <a:off x="4797360" y="914400"/>
            <a:ext cx="2511360" cy="3432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Snurfer-RS.jpg"/>
          <p:cNvPicPr/>
          <p:nvPr/>
        </p:nvPicPr>
        <p:blipFill>
          <a:blip r:embed="rId3"/>
          <a:stretch/>
        </p:blipFill>
        <p:spPr>
          <a:xfrm>
            <a:off x="6626160" y="3578400"/>
            <a:ext cx="2116080" cy="223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alan_repack1.jpg"/>
          <p:cNvPicPr/>
          <p:nvPr/>
        </p:nvPicPr>
        <p:blipFill>
          <a:blip r:embed="rId4"/>
          <a:stretch/>
        </p:blipFill>
        <p:spPr>
          <a:xfrm>
            <a:off x="835200" y="1676520"/>
            <a:ext cx="34318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HOW do I Synthesize?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xamin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LL evidence you are give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 sure you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understan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hat evid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f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erpre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ink about the SOAPSTone elem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cce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specially TONE and PURPO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ink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– what can I create from these piec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5" name="Picture 1" descr="spork-sul-L.jpg"/>
          <p:cNvPicPr/>
          <p:nvPr/>
        </p:nvPicPr>
        <p:blipFill>
          <a:blip r:embed="rId1"/>
          <a:stretch/>
        </p:blipFill>
        <p:spPr>
          <a:xfrm>
            <a:off x="6095880" y="1901880"/>
            <a:ext cx="274320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In School….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often…usually….all the time takes the following form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ook at a bunch of documen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gure out what they mean and are say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 a response, essay, lab report, etc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Diagram 1" descr=""/>
          <p:cNvPicPr/>
          <p:nvPr/>
        </p:nvPicPr>
        <p:blipFill>
          <a:blip r:embed="rId1"/>
          <a:stretch/>
        </p:blipFill>
        <p:spPr>
          <a:xfrm>
            <a:off x="4876920" y="3352680"/>
            <a:ext cx="51084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But…Let’s Slow Down!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do you decide which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movi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o go to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do you decide which latest greatest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ech thingy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 buy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do you decide which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outfi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o wear on the first dat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ou ask a bunch of people their opinions, weigh those comments, and make a decision!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1" name="Picture 1" descr="The-Hunger-Games-fanmade-movie-poster-Katniss-Everdeen-the-hunger-games-movie-22637851-884-1280.jpg"/>
          <p:cNvPicPr/>
          <p:nvPr/>
        </p:nvPicPr>
        <p:blipFill>
          <a:blip r:embed="rId1"/>
          <a:stretch/>
        </p:blipFill>
        <p:spPr>
          <a:xfrm>
            <a:off x="7669080" y="73080"/>
            <a:ext cx="1109880" cy="1603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220px-Mobile_phone_evolution.jpg"/>
          <p:cNvPicPr/>
          <p:nvPr/>
        </p:nvPicPr>
        <p:blipFill>
          <a:blip r:embed="rId2"/>
          <a:stretch/>
        </p:blipFill>
        <p:spPr>
          <a:xfrm>
            <a:off x="6473880" y="304920"/>
            <a:ext cx="1176120" cy="1755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images-2.jpeg"/>
          <p:cNvPicPr/>
          <p:nvPr/>
        </p:nvPicPr>
        <p:blipFill>
          <a:blip r:embed="rId3"/>
          <a:stretch/>
        </p:blipFill>
        <p:spPr>
          <a:xfrm>
            <a:off x="7236000" y="1523880"/>
            <a:ext cx="177480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You…have…synthesized!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ou have taken many “texts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ou have examined the credibility of thos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ou have created something new….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a decis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6" name="Picture 3" descr="spork-sul-L.jpg"/>
          <p:cNvPicPr/>
          <p:nvPr/>
        </p:nvPicPr>
        <p:blipFill>
          <a:blip r:embed="rId1"/>
          <a:stretch/>
        </p:blipFill>
        <p:spPr>
          <a:xfrm>
            <a:off x="5638680" y="39625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Now…let’s practice!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Document A </a:t>
            </a:r>
            <a:br>
              <a:rPr sz="3600"/>
            </a:b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What is it saying?</a:t>
            </a:r>
            <a:endParaRPr b="0" lang="en-US" sz="36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70" name="Content Placeholder 3" descr="warming 1.png"/>
          <p:cNvPicPr/>
          <p:nvPr/>
        </p:nvPicPr>
        <p:blipFill>
          <a:blip r:embed="rId1"/>
          <a:stretch/>
        </p:blipFill>
        <p:spPr>
          <a:xfrm>
            <a:off x="2895480" y="230508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Document B</a:t>
            </a:r>
            <a:br>
              <a:rPr sz="3600"/>
            </a:b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What is it saying?</a:t>
            </a:r>
            <a:endParaRPr b="0" lang="en-US" sz="36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72" name="Content Placeholder 3" descr="warming 2.jpg"/>
          <p:cNvPicPr/>
          <p:nvPr/>
        </p:nvPicPr>
        <p:blipFill>
          <a:blip r:embed="rId1"/>
          <a:stretch/>
        </p:blipFill>
        <p:spPr>
          <a:xfrm>
            <a:off x="1446120" y="1703520"/>
            <a:ext cx="586908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Compose a response with the information you have been given</a:t>
            </a:r>
            <a:endParaRPr b="0" lang="en-US" sz="36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member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pic sen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ment x3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documents don</a:t>
            </a:r>
            <a:r>
              <a:rPr b="0" lang="ja-JP" sz="2400" spc="-1" strike="noStrike">
                <a:solidFill>
                  <a:srgbClr val="000000"/>
                </a:solidFill>
                <a:latin typeface="Perpetu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 HAVE to be us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n you do, cite the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…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(Document A).  This shows that ………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But….how do we incorporate other parts to this issue?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Definition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To take individual items and make a new product out of them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For example…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Document C</a:t>
            </a:r>
            <a:br>
              <a:rPr sz="3600"/>
            </a:b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What is it saying?</a:t>
            </a:r>
            <a:endParaRPr b="0" lang="en-US" sz="36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78" name="Content Placeholder 3" descr="warming against 1.jpg"/>
          <p:cNvPicPr/>
          <p:nvPr/>
        </p:nvPicPr>
        <p:blipFill>
          <a:blip r:embed="rId1"/>
          <a:stretch/>
        </p:blipFill>
        <p:spPr>
          <a:xfrm>
            <a:off x="2419200" y="1886040"/>
            <a:ext cx="47628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Document D</a:t>
            </a:r>
            <a:br>
              <a:rPr sz="3600"/>
            </a:b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What is it saying?</a:t>
            </a:r>
            <a:endParaRPr b="0" lang="en-US" sz="36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80" name="Content Placeholder 3" descr="anti 2.jpg"/>
          <p:cNvPicPr/>
          <p:nvPr/>
        </p:nvPicPr>
        <p:blipFill>
          <a:blip r:embed="rId1"/>
          <a:stretch/>
        </p:blipFill>
        <p:spPr>
          <a:xfrm>
            <a:off x="1828800" y="1752480"/>
            <a:ext cx="5410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Hmmm….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must you adjust your paragraph to account for these last two cartoon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on</a:t>
            </a:r>
            <a:r>
              <a:rPr b="0" lang="ja-JP" sz="2600" spc="-1" strike="noStrike">
                <a:solidFill>
                  <a:srgbClr val="000000"/>
                </a:solidFill>
                <a:latin typeface="Perpetu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 these point to the </a:t>
            </a:r>
            <a:r>
              <a:rPr b="0" lang="ja-JP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ther side</a:t>
            </a:r>
            <a:r>
              <a:rPr b="0" lang="ja-JP" sz="2600" spc="-1" strike="noStrike">
                <a:solidFill>
                  <a:srgbClr val="000000"/>
                </a:solidFill>
                <a:latin typeface="Perpetua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f the argument?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o you get to just ignore them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o you HAVE to include at least a mention of them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Yes….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ou must mention the </a:t>
            </a:r>
            <a:r>
              <a:rPr b="0" lang="ja-JP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ther side</a:t>
            </a:r>
            <a:r>
              <a:rPr b="0" lang="ja-JP" sz="2600" spc="-1" strike="noStrike">
                <a:solidFill>
                  <a:srgbClr val="000000"/>
                </a:solidFill>
                <a:latin typeface="Perpetua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your paragraph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ke sure your topic sentence is strong enough to support BOTH sid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 sure to be clear about how the cartoons prove what you say they pro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76a55"/>
                </a:solidFill>
                <a:latin typeface="Franklin Gothic Book"/>
              </a:rPr>
              <a:t>Mr. and Mrs. Smith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86" name="MR_MRS_SMITH_WS_Chapter_07_01_20.mov" descr="/Volumes/A STUDIES 2/American Studies/Literary Terms and Lessons/Synthesis/MR_MRS_SMITH_WS_Chapter_07_01_20.mov"/>
          <p:cNvPicPr/>
          <p:nvPr/>
        </p:nvPicPr>
        <p:blipFill>
          <a:blip r:embed="rId1"/>
          <a:stretch/>
        </p:blipFill>
        <p:spPr>
          <a:xfrm>
            <a:off x="1523880" y="160020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86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Compose a new paragraph that includes the 2 new documents!</a:t>
            </a:r>
            <a:endParaRPr b="0" lang="en-US" sz="36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Primary Colors!!!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33" name="Content Placeholder 3" descr="color-wheel-primary-colors.jpg"/>
          <p:cNvPicPr/>
          <p:nvPr/>
        </p:nvPicPr>
        <p:blipFill>
          <a:blip r:embed="rId1"/>
          <a:stretch/>
        </p:blipFill>
        <p:spPr>
          <a:xfrm>
            <a:off x="1981080" y="1444680"/>
            <a:ext cx="50292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Secondary Colors !!!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35" name="Content Placeholder 3" descr="secondary.jpg"/>
          <p:cNvPicPr/>
          <p:nvPr/>
        </p:nvPicPr>
        <p:blipFill>
          <a:blip r:embed="rId1"/>
          <a:stretch/>
        </p:blipFill>
        <p:spPr>
          <a:xfrm>
            <a:off x="1828800" y="1273320"/>
            <a:ext cx="5334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Tertiary Colors !!!  </a:t>
            </a:r>
            <a:r>
              <a:rPr b="0" lang="en-US" sz="2400" spc="-1" strike="noStrike">
                <a:solidFill>
                  <a:srgbClr val="676a55"/>
                </a:solidFill>
                <a:latin typeface="Franklin Gothic Book"/>
              </a:rPr>
              <a:t>(who knew?)</a:t>
            </a:r>
            <a:endParaRPr b="0" lang="en-US" sz="24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37" name="Content Placeholder 3" descr="tertiary.jpg"/>
          <p:cNvPicPr/>
          <p:nvPr/>
        </p:nvPicPr>
        <p:blipFill>
          <a:blip r:embed="rId1"/>
          <a:stretch/>
        </p:blipFill>
        <p:spPr>
          <a:xfrm>
            <a:off x="1828800" y="1500120"/>
            <a:ext cx="5105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Gasoline Powered Engine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39" name="Content Placeholder 3" descr="gas car.jpg"/>
          <p:cNvPicPr/>
          <p:nvPr/>
        </p:nvPicPr>
        <p:blipFill>
          <a:blip r:embed="rId1"/>
          <a:stretch/>
        </p:blipFill>
        <p:spPr>
          <a:xfrm>
            <a:off x="2057400" y="1509840"/>
            <a:ext cx="5181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Electric Powered Engine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41" name="Content Placeholder 3" descr="electric car.jpg"/>
          <p:cNvPicPr/>
          <p:nvPr/>
        </p:nvPicPr>
        <p:blipFill>
          <a:blip r:embed="rId1"/>
          <a:stretch/>
        </p:blipFill>
        <p:spPr>
          <a:xfrm>
            <a:off x="1371600" y="1676520"/>
            <a:ext cx="631188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Synthesize (Think) and What do We Create?</a:t>
            </a:r>
            <a:endParaRPr b="0" lang="en-US" sz="36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43" name="Content Placeholder 3" descr="26Prius-illo_L_700.jpg"/>
          <p:cNvPicPr/>
          <p:nvPr/>
        </p:nvPicPr>
        <p:blipFill>
          <a:blip r:embed="rId1"/>
          <a:stretch/>
        </p:blipFill>
        <p:spPr>
          <a:xfrm>
            <a:off x="1467000" y="1533600"/>
            <a:ext cx="6667200" cy="44006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6172200" y="6248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yota Pr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Photosynthesis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is it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two items are needed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ght (phot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hlorophy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</a:t>
            </a:r>
            <a:r>
              <a:rPr b="0" lang="ja-JP" sz="2600" spc="-1" strike="noStrike">
                <a:solidFill>
                  <a:srgbClr val="000000"/>
                </a:solidFill>
                <a:latin typeface="Perpetu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 created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nergy for the plant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Picture 3" descr="photosynthesis.jpg"/>
          <p:cNvPicPr/>
          <p:nvPr/>
        </p:nvPicPr>
        <p:blipFill>
          <a:blip r:embed="rId1"/>
          <a:stretch/>
        </p:blipFill>
        <p:spPr>
          <a:xfrm>
            <a:off x="4876920" y="28195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6:16:53Z</dcterms:created>
  <dc:creator>.</dc:creator>
  <dc:description/>
  <dc:language>en-US</dc:language>
  <cp:lastModifiedBy>Chris Warner</cp:lastModifiedBy>
  <dcterms:modified xsi:type="dcterms:W3CDTF">2013-09-02T03:52:12Z</dcterms:modified>
  <cp:revision>18</cp:revision>
  <dc:subject/>
  <dc:title>Synthesis!</dc:title>
</cp:coreProperties>
</file>